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8FA-FD15-43CA-9228-A1BB08F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0BA-0955-4E27-B5BF-220515B1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2BC9-A565-4507-B060-6EED790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FABA6-9E7B-4CAF-88DD-E749D7A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3B083-8502-49B9-ACFE-FCC5C85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37F5-92BB-42C7-B2AF-7B090ED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D375C-F569-474D-8FAF-1C5A329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9065-AB37-4DAF-9EAF-9DD926E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7482-0332-43B8-A4FA-EAB5B3DA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8B4B8-EF98-433A-AED6-7D9BD6E9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3479-A52E-48CB-83C9-87A503CE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CD59C-0D66-4EE9-B63E-66A89B5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D95-756C-4529-AEBF-0EA7175F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75F7-F541-4863-A614-0DEFFF91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9E6F6-1C82-4B37-8B25-4EF414B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7007A-4BF6-4071-9424-3D6F0EEF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BED30-EF3A-4283-8D41-5F34C3F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E1CD-D6A9-4DAC-A43B-4643B540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9756E-CA5D-4B4B-A44B-40B6EAFC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2A89F-3613-45F8-A603-792FBA9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D8F7A-7500-4894-8113-3F994E6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5ABC3-5D05-449C-8E2E-929DED1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2763-4744-434A-BB1F-CE3CA5BB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769-631E-4055-97F1-A02E4818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B876-F16D-46CB-97E7-F18C9868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633C-1E86-4BDF-968F-EFA13522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5E6-964C-4CAC-82DE-434D19F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49F-F99A-4FBA-8776-39057B79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E9F-0ABD-44C8-B16B-6E4215DA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2C01-486B-46AA-9216-EF92A42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9AF0-459E-4968-A426-54D61FA2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9EE7-E886-4C6F-8829-4D4F7E9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F71-56FF-4EAE-A3EF-A5D536C6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894-0FE7-4977-93B1-F2A3DB9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74CB-D109-46EF-95FB-8A27F6D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E109-88C6-48DF-B670-4970B0E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B26D-1E87-42DE-A2EF-15D66D81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A817-9580-43D0-B0D5-8304AA7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470A-7BC5-43A0-953A-BF99FAC6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5E27-36EB-4908-A6B9-6CACD50A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8330-206B-4B15-9546-1AFD2793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1F53-50C3-4F0F-B7C3-BB91EC64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FCE3-59D9-47A1-9D2A-38B192F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CEF-25E9-4025-90DF-54CECCB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CEA9-867C-46E9-BD1A-D97FE9C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93AD-B666-4E99-814B-C97C8D8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B0E7-069B-45BF-8EEE-6BBAF13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9345-579C-4042-8F08-A33225C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DBD2-2C76-44E0-8845-F5CC0C2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5113-4FA0-4397-9BC0-A880247B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D309-16E6-4B05-8F2B-56A2D161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D906-BCFC-4A9E-8020-92DE521C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3B5E-DC48-447F-A625-0B5FDC0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F62E-4A72-40F8-98FC-A24482D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B67-F738-49FF-8FAD-2B926CD9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3B0F-025A-4649-A2EE-732265CC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9543-1395-4DA7-B762-307A0216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1947-6F0E-45AE-9B81-11B6A80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25DE-C33D-461F-A5EF-01AE82F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00C8-9388-40B8-BAF5-2FF50F7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D512-BC77-4E24-BB70-7170D8FF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8757-70AA-46D6-ACD0-73E4881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F34C-B22B-4F5E-92BF-517FD46A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BE05-A901-447D-876B-FDF5C30C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4E36-1CA7-496A-B1A9-3C70EA02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8B2-602B-43F6-B83B-339FA8F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AAAA-7E98-4C70-B272-19F73EE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F00A-C2CE-4E22-9713-F327EA37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B196-CE20-4EC7-9795-AB9C440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D059-E9C5-42F7-BEE5-7EF88BC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D422-466A-4F23-8275-697D787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B6D9-E378-422C-94EC-E2ABDE3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CD19D-3C48-42B6-BA4C-BF25474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772E-47AE-443D-AE51-78C6EE2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A693-A5D2-4D9B-A222-4901AE3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E6CE-799D-4E1D-BE21-A184A03E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620-317E-430E-9591-A00773FC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457A-DD00-4300-B918-84E19C23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5C8A-A4B7-4A6D-AE77-92E12DC1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BEBEF-9711-43C9-A041-F046751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C0AC-FBA9-443E-8BBD-E7B5F1C1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FC44-A9CE-4C62-8698-559C559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299E-12ED-48D1-BDD2-4059A94C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C7AC-2029-4B65-BD90-0006F189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A4D3-1C36-4605-9541-40EE8B0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9128-DFA4-443B-ABAA-34A9DDC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5759-ECA5-481F-969A-3631F10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068-979C-4E73-9BA0-54D6C61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D726-D744-4590-ABD0-FE5822DE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EDD2-7520-4658-ACA9-4BFA5A59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0345-7C5B-45C8-B6C8-457088C6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153C-C00E-46E0-AB4F-2DBC0F57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A7529-0180-4D70-91CC-85B8F14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9163-AE17-4D59-B9E2-27E273B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3A04-CBA4-4C77-804A-9EFB9053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8E60-F5B2-4B68-9349-957D75D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83326-1409-45C9-A713-E5107C24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A77D-01AD-4BA4-B55E-ABF479B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9C9-F35F-40B4-B5AE-7FD09E9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B366-EDCE-45EB-BF85-C73B92F2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4E24-1EE9-42A7-8697-A621F35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0921-4866-444E-B893-FD256F9F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3CB4B-B761-4345-A0E9-7DDD0292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6851-6F02-4E55-AFBC-3C6766EF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58A6-BD73-461C-804A-901869D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A15E-9B96-42B0-9146-8CC9660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ABF25-D749-4629-9966-89AD4C9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5D51-BB69-4C62-A8AD-5E5ADE6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8EA0-B583-4CA8-8BE8-96F022B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466-6C08-4F2E-891E-BFFADE1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3961-4777-4892-8516-30B4166F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92076-894C-474F-9FED-AFF8DFE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59D6-3A18-439B-8A36-B77B48B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5C84-399B-4342-9C95-FC801E1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1128A-CB5B-4F84-B194-78829E1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6512-E565-4ECF-89C7-EC0EF68A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B914-6EAB-42EC-9879-E9D657D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9A262-1705-4B66-A7AF-F888E67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1D358-9B02-4778-9A05-263C10D3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DF45F-C2D0-44F3-A629-28522053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4B76-EB03-4126-8A8C-C726FE8758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CCF-39D5-47CC-87B0-B5C655067E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C7A0-D918-42A4-9F33-ADCCCDA9A9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B77-D438-432A-A3BF-A3BDC56529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791-6180-43F7-9FF0-AE29425294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1A49-3362-43CB-B44F-576ABA92C5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705-0F5C-4612-B1B1-3A8D4F3DC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8A0B-73AC-4217-B13A-A230901815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956-81C9-4071-9729-C2C2DA7D74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41D6-FBBF-4EBF-8F0E-43161660E7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ЛАНИРОВАНИЕ И ОРГАНИЗАЦИЯ ЛЕТН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ЗДОРОВИТЕЛЬНОГО ПЕРИ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leto"/>
          <p:cNvPicPr/>
          <p:nvPr/>
        </p:nvPicPr>
        <p:blipFill>
          <a:blip r:embed="rId1"/>
          <a:stretch/>
        </p:blipFill>
        <p:spPr>
          <a:xfrm>
            <a:off x="2036880" y="3425760"/>
            <a:ext cx="4619520" cy="6291360"/>
          </a:xfrm>
          <a:prstGeom prst="rect">
            <a:avLst/>
          </a:prstGeom>
          <a:ln w="0">
            <a:noFill/>
          </a:ln>
        </p:spPr>
      </p:pic>
      <p:sp>
        <p:nvSpPr>
          <p:cNvPr id="493" name="TextBox 6"/>
          <p:cNvSpPr/>
          <p:nvPr/>
        </p:nvSpPr>
        <p:spPr>
          <a:xfrm>
            <a:off x="6477120" y="44863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Торопыгина Н.А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ам. завед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523880" y="380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Муниципальное казенное дошко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разовательное учреждение  Ханты – Мансий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«Детский сад «Светлячок» д. Шапш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Рисунок 7" descr="Logo"/>
          <p:cNvPicPr/>
          <p:nvPr/>
        </p:nvPicPr>
        <p:blipFill>
          <a:blip r:embed="rId2"/>
          <a:stretch/>
        </p:blipFill>
        <p:spPr>
          <a:xfrm>
            <a:off x="762120" y="304920"/>
            <a:ext cx="1000080" cy="92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1640" y="533520"/>
            <a:ext cx="67057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водоём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9" name="Picture 10" descr="SAM_1041"/>
          <p:cNvPicPr/>
          <p:nvPr/>
        </p:nvPicPr>
        <p:blipFill>
          <a:blip r:embed="rId1"/>
          <a:stretch/>
        </p:blipFill>
        <p:spPr>
          <a:xfrm>
            <a:off x="334800" y="152280"/>
            <a:ext cx="2489400" cy="3318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SAM_1055"/>
          <p:cNvPicPr/>
          <p:nvPr/>
        </p:nvPicPr>
        <p:blipFill>
          <a:blip r:embed="rId2"/>
          <a:stretch/>
        </p:blipFill>
        <p:spPr>
          <a:xfrm>
            <a:off x="3657600" y="140796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SAM_1006"/>
          <p:cNvPicPr/>
          <p:nvPr/>
        </p:nvPicPr>
        <p:blipFill>
          <a:blip r:embed="rId3"/>
          <a:stretch/>
        </p:blipFill>
        <p:spPr>
          <a:xfrm>
            <a:off x="334800" y="3809880"/>
            <a:ext cx="3708720" cy="2783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SAM_0961"/>
          <p:cNvPicPr/>
          <p:nvPr/>
        </p:nvPicPr>
        <p:blipFill>
          <a:blip r:embed="rId4"/>
          <a:stretch/>
        </p:blipFill>
        <p:spPr>
          <a:xfrm>
            <a:off x="6400800" y="3352680"/>
            <a:ext cx="2506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55404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борудование для развития движен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24" name="Picture 12" descr="IMG_00091 (334)"/>
          <p:cNvPicPr/>
          <p:nvPr/>
        </p:nvPicPr>
        <p:blipFill>
          <a:blip r:embed="rId1"/>
          <a:stretch/>
        </p:blipFill>
        <p:spPr>
          <a:xfrm>
            <a:off x="2971800" y="24573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SAM_1017"/>
          <p:cNvPicPr/>
          <p:nvPr/>
        </p:nvPicPr>
        <p:blipFill>
          <a:blip r:embed="rId2"/>
          <a:stretch/>
        </p:blipFill>
        <p:spPr>
          <a:xfrm>
            <a:off x="304920" y="11430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SAM_0976"/>
          <p:cNvPicPr/>
          <p:nvPr/>
        </p:nvPicPr>
        <p:blipFill>
          <a:blip r:embed="rId3"/>
          <a:stretch/>
        </p:blipFill>
        <p:spPr>
          <a:xfrm>
            <a:off x="6180120" y="161784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SAM_0963"/>
          <p:cNvPicPr/>
          <p:nvPr/>
        </p:nvPicPr>
        <p:blipFill>
          <a:blip r:embed="rId4"/>
          <a:stretch/>
        </p:blipFill>
        <p:spPr>
          <a:xfrm>
            <a:off x="6858000" y="4064040"/>
            <a:ext cx="1962000" cy="26161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SAM_0977"/>
          <p:cNvPicPr/>
          <p:nvPr/>
        </p:nvPicPr>
        <p:blipFill>
          <a:blip r:embed="rId5"/>
          <a:stretch/>
        </p:blipFill>
        <p:spPr>
          <a:xfrm>
            <a:off x="3352680" y="5029200"/>
            <a:ext cx="3318120" cy="1351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SAM_1092"/>
          <p:cNvPicPr/>
          <p:nvPr/>
        </p:nvPicPr>
        <p:blipFill>
          <a:blip r:embed="rId6"/>
          <a:stretch/>
        </p:blipFill>
        <p:spPr>
          <a:xfrm>
            <a:off x="417600" y="4808520"/>
            <a:ext cx="23889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Дорожки здоровь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SAM_0975"/>
          <p:cNvPicPr/>
          <p:nvPr/>
        </p:nvPicPr>
        <p:blipFill>
          <a:blip r:embed="rId1"/>
          <a:stretch/>
        </p:blipFill>
        <p:spPr>
          <a:xfrm>
            <a:off x="5029200" y="3768840"/>
            <a:ext cx="3594240" cy="2246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6" descr="SAM_1031"/>
          <p:cNvPicPr/>
          <p:nvPr/>
        </p:nvPicPr>
        <p:blipFill>
          <a:blip r:embed="rId2"/>
          <a:stretch/>
        </p:blipFill>
        <p:spPr>
          <a:xfrm>
            <a:off x="5334120" y="793800"/>
            <a:ext cx="3173400" cy="2381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7" descr="SAM_1047"/>
          <p:cNvPicPr/>
          <p:nvPr/>
        </p:nvPicPr>
        <p:blipFill>
          <a:blip r:embed="rId3"/>
          <a:stretch/>
        </p:blipFill>
        <p:spPr>
          <a:xfrm>
            <a:off x="914400" y="28764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ознавательно-исследовательская деятельнос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36" name="Picture 7" descr="SAM_1106"/>
          <p:cNvPicPr/>
          <p:nvPr/>
        </p:nvPicPr>
        <p:blipFill>
          <a:blip r:embed="rId1"/>
          <a:stretch/>
        </p:blipFill>
        <p:spPr>
          <a:xfrm>
            <a:off x="304920" y="1600200"/>
            <a:ext cx="253836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SAM_1098"/>
          <p:cNvPicPr/>
          <p:nvPr/>
        </p:nvPicPr>
        <p:blipFill>
          <a:blip r:embed="rId2"/>
          <a:stretch/>
        </p:blipFill>
        <p:spPr>
          <a:xfrm>
            <a:off x="3048120" y="16765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SAM_1100"/>
          <p:cNvPicPr/>
          <p:nvPr/>
        </p:nvPicPr>
        <p:blipFill>
          <a:blip r:embed="rId3"/>
          <a:stretch/>
        </p:blipFill>
        <p:spPr>
          <a:xfrm>
            <a:off x="6095880" y="15145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SAM_1102"/>
          <p:cNvPicPr/>
          <p:nvPr/>
        </p:nvPicPr>
        <p:blipFill>
          <a:blip r:embed="rId4"/>
          <a:stretch/>
        </p:blipFill>
        <p:spPr>
          <a:xfrm>
            <a:off x="228600" y="4527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1" descr="SAM_1104"/>
          <p:cNvPicPr/>
          <p:nvPr/>
        </p:nvPicPr>
        <p:blipFill>
          <a:blip r:embed="rId5"/>
          <a:stretch/>
        </p:blipFill>
        <p:spPr>
          <a:xfrm>
            <a:off x="5181480" y="44625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0020-020-Spasibo-za-vnimanie"/>
          <p:cNvPicPr/>
          <p:nvPr/>
        </p:nvPicPr>
        <p:blipFill>
          <a:blip r:embed="rId1"/>
          <a:stretch/>
        </p:blipFill>
        <p:spPr>
          <a:xfrm>
            <a:off x="13716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летней оздоровительной рабо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охраны жизни и здоровья детей через интегрированный подход к использованию благоприятных природных факторов и повышение адаптационных возможностей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Формирование познавательной активности дошкольников на основе системно-деятельностного подхода через поддержку детской инициативы  в различных видах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380880" y="43434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 Л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етьми: воспитательно-образовательная, оздоровительная, профила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педагогами: профилактическая, контроль и руководство, мето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министративно-хозяйствен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48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деть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но-образова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ендарное планирование; музыкальные, физкультурные занятия и развлечения; совместная и самостоятельная  деятельность в условиях естественной экологической среды; работа по безопасности жизнедеятельности; экскурсии и целевые прогу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дорови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симальное пребывание на свежем воздухе; создание условий для двигательной активности; закаливание; питьевой режим и витами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мероприятия по профилактике энтеребиоза и желудочно-кишечных заболе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педагог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12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ктажи по безопасности жизнедеятельности детей, профилакике детского травматизма, ОТ и ТБ; консультации для педагогов по организации и проведению Л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и руковод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мотры-конкурсы; контроль проведения режимных моментов и закаливающих процедур; контроль планирования и организации гибкого режима; контроль организации двигательно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онсультации для педагогов ; разработка плана на следующий учебный год; корректировка АООП МБ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родителям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08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родительских угол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дня и сетка занятий, рекомендации по воспитанию детей летом; рекомендации по патриотическому и экологическому воспитанию, игре на свежем воздух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стие родителей в оборудовании участков и групповых помещ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вающая среда на участках ДОУ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сихологический комфорт и безопасность обстан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Обеспечение возможности укрепления физического и психического здоровь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Реализация права ребенка на свободный выбор вида деятельности (игровой, двигательной, познавательно-исследовательской, коммуникативной, трудовой, самообслуживания, изобразительной, музыкальной, восприятия художественной литератур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Обеспечение самостоятельной индивидуа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зможность получить максимум знаний, умений, ярких впечатлений, положительных эмо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0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расочные ве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0" name="Picture 8" descr="SAM_1074"/>
          <p:cNvPicPr/>
          <p:nvPr/>
        </p:nvPicPr>
        <p:blipFill>
          <a:blip r:embed="rId1"/>
          <a:stretch/>
        </p:blipFill>
        <p:spPr>
          <a:xfrm>
            <a:off x="152280" y="144792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SAM_0956"/>
          <p:cNvPicPr/>
          <p:nvPr/>
        </p:nvPicPr>
        <p:blipFill>
          <a:blip r:embed="rId2"/>
          <a:stretch/>
        </p:blipFill>
        <p:spPr>
          <a:xfrm>
            <a:off x="4724280" y="69696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SAM_0957"/>
          <p:cNvPicPr/>
          <p:nvPr/>
        </p:nvPicPr>
        <p:blipFill>
          <a:blip r:embed="rId3"/>
          <a:stretch/>
        </p:blipFill>
        <p:spPr>
          <a:xfrm>
            <a:off x="32767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932000" y="106668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огоро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4" name="Picture 7" descr="SAM_1038"/>
          <p:cNvPicPr/>
          <p:nvPr/>
        </p:nvPicPr>
        <p:blipFill>
          <a:blip r:embed="rId1"/>
          <a:stretch/>
        </p:blipFill>
        <p:spPr>
          <a:xfrm>
            <a:off x="1752480" y="1522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SAM_1040"/>
          <p:cNvPicPr/>
          <p:nvPr/>
        </p:nvPicPr>
        <p:blipFill>
          <a:blip r:embed="rId2"/>
          <a:stretch/>
        </p:blipFill>
        <p:spPr>
          <a:xfrm>
            <a:off x="324000" y="310356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Рисунок 1 031"/>
          <p:cNvPicPr/>
          <p:nvPr/>
        </p:nvPicPr>
        <p:blipFill>
          <a:blip r:embed="rId3"/>
          <a:stretch/>
        </p:blipFill>
        <p:spPr>
          <a:xfrm>
            <a:off x="3056040" y="4160880"/>
            <a:ext cx="2609640" cy="2514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SAM_1019"/>
          <p:cNvPicPr/>
          <p:nvPr/>
        </p:nvPicPr>
        <p:blipFill>
          <a:blip r:embed="rId4"/>
          <a:stretch/>
        </p:blipFill>
        <p:spPr>
          <a:xfrm>
            <a:off x="5257800" y="20224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5:33:13Z</dcterms:created>
  <dc:creator>Юрий</dc:creator>
  <dc:description/>
  <dc:language>en-US</dc:language>
  <cp:lastModifiedBy>ната</cp:lastModifiedBy>
  <dcterms:modified xsi:type="dcterms:W3CDTF">2023-05-15T07:16:40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