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AF0C-F99E-4749-AADE-0C13FF4498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8055-A124-4066-B8FF-5614E8A1F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D09-687E-4C99-A213-32868E8E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132-2C70-49CA-AFD4-BFA903D6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F29-D49F-49EE-9EE2-E926F692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2050-B83F-455E-9591-1C6E1B16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C68-DFE0-45B3-ACCF-DC53BB89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9C1-573D-41AB-B5E0-31A5B8A8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DBD-0CB5-44D5-A56B-F9ADFD61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755-9447-4FE5-AAF6-601B2ABB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7D06-D2EA-4B77-B486-CB2E63DB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150-1372-4EB8-9C58-079D658B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917-A182-43A8-869E-E094F6FA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27EF-89B5-4F22-B592-14AC865E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E326-4685-429B-8D81-2AE2EBA4A5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3500280"/>
            <a:ext cx="671544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«ПРОВЕДЕНИЕ ИНДИВИДУАЛЬНОЙ   РАБО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  ДЕТЬМИ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57480" y="5071680"/>
            <a:ext cx="324324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оропыгина Н.А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зам. заведующе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714680" y="428760"/>
            <a:ext cx="63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Муниципальное казенное дошко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образовательное учреждение  Ханты – Мансий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«Детский сад «Светлячок» д. Шапша</a:t>
            </a:r>
            <a:r>
              <a:rPr b="0" i="1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Logo"/>
          <p:cNvPicPr/>
          <p:nvPr/>
        </p:nvPicPr>
        <p:blipFill>
          <a:blip r:embed="rId2"/>
          <a:stretch/>
        </p:blipFill>
        <p:spPr>
          <a:xfrm>
            <a:off x="428760" y="428760"/>
            <a:ext cx="1000080" cy="928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3798000" y="6000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 Шапша, 2022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42876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1476360" y="476280"/>
            <a:ext cx="7199280" cy="69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ндивидуальная работа проводи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 детьми, не посещающими регулярно детский сад по болезни или другим причинам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 детьми «ослабленными», имеющими низкую работоспособность на занятии, застенчивыми, медлительными, заторможенными и педагогически запущенны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ндивидуальная работа организуется с целью активизации пассивных детей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1908000" y="-153720"/>
            <a:ext cx="6521760" cy="72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ланируется индивидуальная работа с детьми во время режимных процессов (воспитание культурно-гигиенических навыков, самостоятельности, развитие речи, движений и т. д.) и ведётся педагогом на протяжении всего дня, во всех режимных моментах, в любом виде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ладший дошкольный возра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428760" y="28584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684360" y="322920"/>
            <a:ext cx="7991280" cy="66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ервая половина дня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. Индивидуальные занятия с детьми, имеющие пробелы в знаниях, рекомендуется организовывать преимущественно в форме игры. Организуются специальные игры и упражнения с теми детьми, которые нуждаются в исправлении недостатков речи или с отстающими в каких-либо движениях. Малоактивным и замкнутым детям, дают различные поручения, требующие общения со взрослыми и сверстниками. Недостаточно любознательным детям поручаются интересные наблюдения (например, за синичками, которые прилетели на участок, полюбоваться красотой зимнего утра и т. 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о второй половине дня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оводится индивидуальная работа с детьми по развитию движений, рисованию, вырезыванию, конструированию, исправлению дефектов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357120" y="28584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1428840" y="-386280"/>
            <a:ext cx="7072200" cy="77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о время прогулок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воспитатель проводит индивидуальную работу с детьми: для одних организует игру с мячом, метание в цель, для других — упражнение в равновесии, для третьих — спрыгивание с пеньков, перешагивание через деревья, сбегание с пригорк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а прогулках осуществляется работа и по развитию речи ребенка: разучивание потешки или небольшого стихотворения, закрепление трудного для произношения звука и т. п. Воспитатель может вспомнить с детьми слова и мелодию песни, которую разучивали на музыкальном заня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Форма организации работы - индивидуальная, однако, в некоторых случаях можно проводить работу, организуя детей в малые группы. Проводя индивидуальную работу на прогулке необходимо учитывать сезонность и погодные усло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тарший дошкольный возра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468360" y="260280"/>
            <a:ext cx="1349280" cy="1413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1979640" y="2860560"/>
            <a:ext cx="680400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857160" y="1549080"/>
            <a:ext cx="7500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ндивидуальная работа с детьми по различным образовательным област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оциально-коммуникативному развит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знавательному развит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ечевому развит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художественно-эстетическому развит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физическому разви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и планировании  (в календарных планах) индивидуальной работы с детьми воспитатель указывает конкретно имена тех детей, с кем будет заним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Циклограмма индивидуально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395280" y="0"/>
            <a:ext cx="1351080" cy="1413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1979640" y="3516480"/>
            <a:ext cx="68040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395280" y="775800"/>
            <a:ext cx="82677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Calibri"/>
              </a:rPr>
              <a:t>1. Короткая беседа с родителями во время утреннего приёма детей о самочувствии их ребёнка, о том, что их беспокоит в его по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Calibri"/>
              </a:rPr>
              <a:t>2. Создание и поддержание спокойной, радостной обстановки, предоставление каждому ребёнку возможности заняться интересующим его делом (играть, рассматривать книги, рисовать). Уделить особое внимание детям замкнутым, застенчивым, робким. Их непременно надо подбодрить, они в этом очень нуждаются. Излишне возбуждённых детей следует привлечь к таким играм и занятиям, которые содействовали бы их успокоению, снятию возб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Calibri"/>
              </a:rPr>
              <a:t>3. При подготовке к завтраку воспитывать культурно-гигиенические навыки, оказывая помощь тем детям, которые ещё не владеют необходимыми навы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Calibri"/>
              </a:rPr>
              <a:t>4. Во время завтрака обращать внимание на тех детей, у которых плохой аппетит. Следить за позой детей, а также за соблюдением ими правил культурного поведения за сто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Calibri"/>
              </a:rPr>
              <a:t>5. Проведение индивидуальной работы с детьми, которые пропустили занятия, или что-то не усво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324000" y="333360"/>
            <a:ext cx="1350720" cy="1413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1979640" y="3516480"/>
            <a:ext cx="68040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47640" y="-585000"/>
            <a:ext cx="734544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Calibri"/>
              </a:rPr>
              <a:t>6. Проведение работы с робкими, застенчивыми нерешительными детьми по подготовке их к активному участию в общих занят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Calibri"/>
              </a:rPr>
              <a:t>7. При проведении занятия нужно, прежде всего, обратить внимание на то, чтобы всем детям было удобно сидеть, чтобы все могли хорошо видеть и слышать воспитателя. Следить, чтобы они не сутулились, не наклонялись низко над сто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Calibri"/>
              </a:rPr>
              <a:t>8. Готовя детей к прогулке, нужно уделять особое внимание болезненным и ослабленным детям, следить, чтобы они были хорошо одеты и не простудились. Воспитывать навык одеваться быстро и правильно, в отделенной последова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Calibri"/>
              </a:rPr>
              <a:t>9. На прогулке наряду с общей работой осуществляется и индивидуальная работа с различными цел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Calibri"/>
              </a:rPr>
              <a:t>- преодоление застенчив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Calibri"/>
              </a:rPr>
              <a:t>- развитие наблюда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Calibri"/>
              </a:rPr>
              <a:t>- воспитание трудолюбия, трудовых нав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Calibri"/>
              </a:rPr>
              <a:t>- развит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Calibri"/>
              </a:rPr>
              <a:t>- отработка спортивных эле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Calibri"/>
              </a:rPr>
              <a:t>Уделять внимание детям, которые проявляют особый интерес к математике, окружающему. Выслушать придуманные ими задачи, рассказы, зага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395280" y="333360"/>
            <a:ext cx="1351080" cy="1413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1979640" y="3516480"/>
            <a:ext cx="68040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1619280" y="255240"/>
            <a:ext cx="6840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0. В течение дня наблюдать и руководить работой дежурных. Подбирать пары дежурных в соответствии с их индивидуальными особенностями, с учётом взаимного положительного влияния детей друг на дру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  <a:ea typeface="Calibri"/>
              </a:rPr>
              <a:t>11. При подготовке ко сну следить, чтобы никто из детей не был слишком возбуждё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  <a:ea typeface="Calibri"/>
              </a:rPr>
              <a:t>12. Детей, которые не проявляют интереса и любви к животным и растениям, привлекать к наблюдениям и работе в уголке прир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  <a:ea typeface="Calibri"/>
              </a:rPr>
              <a:t>13. Обращать внимание на проявления детей в трудов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  <a:ea typeface="Calibri"/>
              </a:rPr>
              <a:t>14. Вечером, когда родители приходят за детьми, можно больше времени уделить общению с ними, ответить на их вопросы, порекомендовать соответствующую литературу, рассказывать о самочувствии ребёнка, его поведении, успехах.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ната</cp:lastModifiedBy>
  <dcterms:modified xsi:type="dcterms:W3CDTF">2023-05-15T07:17:13Z</dcterms:modified>
  <cp:revision>44</cp:revision>
  <dc:subject/>
  <dc:title>Слайд 1</dc:title>
</cp:coreProperties>
</file>